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2.gif" ContentType="image/gif"/>
  <Override PartName="/ppt/media/image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6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050920" y="112536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Lesson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187280" y="2205000"/>
            <a:ext cx="680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At the Sh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0" r="0" b="6248"/>
          <a:stretch/>
        </p:blipFill>
        <p:spPr>
          <a:xfrm>
            <a:off x="324000" y="0"/>
            <a:ext cx="38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80000" y="836640"/>
            <a:ext cx="3333960" cy="439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71640" y="4221000"/>
            <a:ext cx="3095640" cy="1584360"/>
          </a:xfrm>
          <a:prstGeom prst="wedgeEllipseCallout">
            <a:avLst>
              <a:gd name="adj1" fmla="val 80050"/>
              <a:gd name="adj2" fmla="val -19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ere they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4" name="chimes.wav"/>
      </p:stSnd>
    </p:sndAc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810400" y="260280"/>
            <a:ext cx="3333600" cy="43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2583000" cy="3527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411280" y="1844640"/>
            <a:ext cx="3384720" cy="1224000"/>
          </a:xfrm>
          <a:prstGeom prst="wedgeRectCallout">
            <a:avLst>
              <a:gd name="adj1" fmla="val 72842"/>
              <a:gd name="adj2" fmla="val 29898"/>
            </a:avLst>
          </a:prstGeom>
          <a:solidFill>
            <a:srgbClr val="bbe0e3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Yes? May I help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692280"/>
            <a:ext cx="3311280" cy="936360"/>
          </a:xfrm>
          <a:prstGeom prst="wedgeEllipseCallout">
            <a:avLst>
              <a:gd name="adj1" fmla="val -35620"/>
              <a:gd name="adj2" fmla="val 208305"/>
            </a:avLst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xcus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4221000"/>
            <a:ext cx="3744720" cy="1513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re’s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ce cr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4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333600" cy="439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907920"/>
            <a:ext cx="4968720" cy="4321440"/>
          </a:xfrm>
          <a:prstGeom prst="wedgeEllipseCallout">
            <a:avLst>
              <a:gd name="adj1" fmla="val 67986"/>
              <a:gd name="adj2" fmla="val 12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ce cream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’m sorr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This shop 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ho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oth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oy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nd bik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no ice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16000" y="44280"/>
            <a:ext cx="6864480" cy="686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40360" y="476280"/>
            <a:ext cx="453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现在准备属于你自己的对话吧，加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3552"/>
          <a:stretch/>
        </p:blipFill>
        <p:spPr>
          <a:xfrm>
            <a:off x="0" y="0"/>
            <a:ext cx="93013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60360" y="1557360"/>
            <a:ext cx="314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skirt     tro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sweater      coat         cap          scarf        dress      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gloves     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shirt       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76720" y="4292640"/>
            <a:ext cx="29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appl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pear  orange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water   me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67520" y="1887480"/>
            <a:ext cx="258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doll    t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ball    k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33360"/>
            <a:ext cx="527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Arial"/>
              </a:rPr>
              <a:t>clothes s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9080" y="620640"/>
            <a:ext cx="31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toy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4941720"/>
            <a:ext cx="166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ff"/>
                </a:solidFill>
                <a:latin typeface="Arial"/>
              </a:rPr>
              <a:t>fruit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202680" cy="6840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13080" y="3068640"/>
            <a:ext cx="3743280" cy="3745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836720" y="836640"/>
            <a:ext cx="568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00"/>
                </a:solidFill>
                <a:latin typeface="Arial"/>
              </a:rPr>
              <a:t>Good  by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45680" y="1011240"/>
            <a:ext cx="164268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记得要想我哦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125360"/>
            <a:ext cx="43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89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oth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449440" cy="244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3284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2016000" cy="193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48000" y="3284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sk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836640"/>
            <a:ext cx="1576440" cy="223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24360" y="3284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4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887560" cy="367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4221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ro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549360"/>
            <a:ext cx="2881440" cy="288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3789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—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867280" y="620640"/>
            <a:ext cx="2880000" cy="287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00720" y="3716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we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4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79280" y="260280"/>
            <a:ext cx="3562200" cy="3565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400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348000" y="549360"/>
            <a:ext cx="2473200" cy="33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35280" y="4005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ca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651640" y="765000"/>
            <a:ext cx="3371760" cy="285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40360" y="3860640"/>
            <a:ext cx="2952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393372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lo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4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024360" cy="243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63640" y="35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916360" y="76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51280" y="3429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h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51640" y="1052640"/>
            <a:ext cx="3205080" cy="2371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372360" y="342900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68360" y="4076640"/>
            <a:ext cx="1969920" cy="2637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43280" y="501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5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6922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咱们复习了衣服，那么，怎么来买衣服呢，一起来学习吧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me 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0" b="17511"/>
          <a:stretch/>
        </p:blipFill>
        <p:spPr>
          <a:xfrm>
            <a:off x="1332000" y="549360"/>
            <a:ext cx="6011640" cy="3860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00" y="501336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At  the  sho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商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323040" y="0"/>
            <a:ext cx="2820960" cy="371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00360" y="404640"/>
            <a:ext cx="3095640" cy="1368720"/>
          </a:xfrm>
          <a:prstGeom prst="wedgeRoundRectCallout">
            <a:avLst>
              <a:gd name="adj1" fmla="val 88361"/>
              <a:gd name="adj2" fmla="val 54523"/>
              <a:gd name="adj3" fmla="val 16667"/>
            </a:avLst>
          </a:prstGeom>
          <a:solidFill>
            <a:srgbClr val="bbe0e3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y  I help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8000" y="2060640"/>
            <a:ext cx="2454120" cy="439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19640" y="3933720"/>
            <a:ext cx="4392360" cy="2087640"/>
          </a:xfrm>
          <a:prstGeom prst="wedgeRoundRectCallout">
            <a:avLst>
              <a:gd name="adj1" fmla="val -72625"/>
              <a:gd name="adj2" fmla="val 3310"/>
              <a:gd name="adj3" fmla="val 16667"/>
            </a:avLst>
          </a:prstGeom>
          <a:solidFill>
            <a:srgbClr val="bbe0e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es ,please. I want to buy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es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Where are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ess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2560" y="26028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404640"/>
            <a:ext cx="3743280" cy="2374920"/>
          </a:xfrm>
          <a:prstGeom prst="cloudCallout">
            <a:avLst>
              <a:gd name="adj1" fmla="val 68787"/>
              <a:gd name="adj2" fmla="val 38435"/>
            </a:avLst>
          </a:prstGeom>
          <a:solidFill>
            <a:srgbClr val="bbe0e3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’l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show you. This way ,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3573360"/>
            <a:ext cx="3598920" cy="2729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95640" y="4726080"/>
            <a:ext cx="4535640" cy="1439640"/>
          </a:xfrm>
          <a:custGeom>
            <a:avLst/>
            <a:gdLst>
              <a:gd name="textAreaLeft" fmla="*/ 0 w 4535640"/>
              <a:gd name="textAreaRight" fmla="*/ 4536000 w 4535640"/>
              <a:gd name="textAreaTop" fmla="*/ 186480 h 1439640"/>
              <a:gd name="textAreaBottom" fmla="*/ 12531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’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  w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5373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6:52:43Z</dcterms:created>
  <dc:creator/>
  <dc:description/>
  <cp:keywords/>
  <dc:language>en-US</dc:language>
  <cp:lastModifiedBy/>
  <dcterms:modified xsi:type="dcterms:W3CDTF">2018-08-18T03:15:25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